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17A9-BAF2-4FBB-B84E-81DFA93F7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193E-10DE-457A-BA6E-1093870A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E419-76DD-4778-B48E-89319E984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455A-00CF-4340-AAA9-35D4CB774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D45D-56A9-4A0C-B870-DB3E08BD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7120-02D1-4BD2-A59E-CFC92001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7B49-FE79-4B09-A881-E1EBDC6F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6DDD-D5F9-4C2C-BDF4-68616A209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4413-721D-4E97-8EC9-F51B0D0EE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79E4-640C-4FE3-A1EA-8F18EC0A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FA24-2542-41D7-AD8F-DE33762C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6D40-F100-4878-9D50-5E92CD36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68539-5E15-457E-9920-4B6E64384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488360" cy="640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9640" y="851040"/>
            <a:ext cx="8136000" cy="52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95480" y="457200"/>
            <a:ext cx="69530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2T08:28:29Z</dcterms:created>
  <dc:creator>M</dc:creator>
  <dc:description/>
  <dc:language>en-US</dc:language>
  <cp:lastModifiedBy>M</cp:lastModifiedBy>
  <dcterms:modified xsi:type="dcterms:W3CDTF">2010-10-22T08:29:28Z</dcterms:modified>
  <cp:revision>1</cp:revision>
  <dc:subject/>
  <dc:title>Folie 1</dc:title>
</cp:coreProperties>
</file>